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9F5-7BAF-4906-99C2-1538D149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186-7531-4A67-B78F-E65E7C71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3E4-38BA-49B7-98A7-6A1E9C6D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A83-57C3-4A21-A11D-EEE7E1F7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A00-354C-4F77-AA40-963DB2FB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D5A-86CF-4D51-A5CC-9F1E883E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568-1257-4007-823E-F3AE5BBD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7CC-A788-49C6-8BDF-4DB24B73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CF0-F714-43F9-B2AC-BD14AEE1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7F0-640C-4CBB-BA02-3C82D1E8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248-36A5-4E9F-AF48-48273D3B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2EE-3CBE-4926-BFA5-ADA0AAD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034C-D5A0-4F95-9BA1-49025235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0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74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5614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23920" y="2584440"/>
            <a:ext cx="68947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00240" y="2622600"/>
            <a:ext cx="67420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38120" y="2373480"/>
            <a:ext cx="64677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27160" y="587520"/>
            <a:ext cx="688824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73240" y="-112680"/>
            <a:ext cx="6797520" cy="70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272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664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89400" y="1600200"/>
            <a:ext cx="236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30520" y="1808280"/>
            <a:ext cx="38829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137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0:29:38Z</dcterms:created>
  <dc:creator>Lica</dc:creator>
  <dc:description/>
  <dc:language>en-US</dc:language>
  <cp:lastModifiedBy>AMAVI</cp:lastModifiedBy>
  <dcterms:modified xsi:type="dcterms:W3CDTF">2007-05-07T17:36:40Z</dcterms:modified>
  <cp:revision>9</cp:revision>
  <dc:subject/>
  <dc:title>Slide 1</dc:title>
</cp:coreProperties>
</file>